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D0007-FCAC-42D3-9613-41AC2DD190E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9414A-FDF6-43D5-837C-DE703931ECA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5C880-C517-473C-892B-51EC30FF022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04B91-F38E-4C97-BED3-0D0C6B2E3F9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9C4B2-9A37-474C-92FB-5F0020AFBE2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44127-18B1-4E54-9838-5B02F4AD246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96F38-6727-4923-BEF9-92D646CC270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03B7DF-8EF2-4CB3-ACC6-29FD1956CB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6AD8AA-47F6-413F-ACCD-F4F6BE6E6A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F10AA3-539E-4AA3-8755-608E7EA3AA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2CBD57-9A5F-4421-9433-B13BB44907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FB29D9-BAA7-4EB0-8675-85E3E3392F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2BDFA0-E19F-4237-B7CA-36D232F3CC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A8AAC8-0D40-434E-A904-2A54D1090E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06830D-309E-48D3-A028-165B809375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4F2F48-6CA5-4992-A36F-F03873A89B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C1C35E-49AC-4379-A31D-1DE1EB60FD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AE59D8-F98F-4B98-BBD3-C86C771572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E4CBFA-0931-435D-9687-5C434155D0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167CE-8B3E-40D9-BD17-EAB9D726B9D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http://www.ethics.state.tx.us/" TargetMode="External"/><Relationship Id="rId2" Type="http://schemas.openxmlformats.org/officeDocument/2006/relationships/hyperlink" Target="http://www.texastribune.org/texas-state-agencies/texas-ethics-commission/" TargetMode="External"/><Relationship Id="rId3" Type="http://schemas.openxmlformats.org/officeDocument/2006/relationships/hyperlink" Target="http://en.wikipedia.org/wiki/Texas_Ethics_Commission" TargetMode="External"/><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www.tlc.state.tx.us/redist/process_lrb.html" TargetMode="External"/><Relationship Id="rId2" Type="http://schemas.openxmlformats.org/officeDocument/2006/relationships/hyperlink" Target="http://www.texastribune.org/texas-redistricting/legislative-redistricting-board/" TargetMode="External"/><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http://www.lrl.state.tx.us/index.cfm" TargetMode="External"/><Relationship Id="rId2" Type="http://schemas.openxmlformats.org/officeDocument/2006/relationships/hyperlink" Target="http://www.lrl.state.tx.us/sessions/billStatistics.cfm" TargetMode="External"/><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statutes.legis.state.tx.us/Docs/CN/htm/CN.3.htm" TargetMode="External"/><Relationship Id="rId2" Type="http://schemas.openxmlformats.org/officeDocument/2006/relationships/hyperlink" Target="http://www.tshaonline.org/handbook/online/articles/TT/mkt2.html" TargetMode="External"/><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tarlton.law.utexas.edu/constitutions/text/IART03.html" TargetMode="External"/><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hyperlink" Target="http://en.wikipedia.org/wiki/Superconducting_Super_Collider" TargetMode="External"/><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hyperlink" Target="http://www.lrl.state.tx.us/whatsNew/client/index.cfm/2011/2/28/FAQs-about-the-Economic-Stabilization-Rainy-Day-Fund" TargetMode="External"/><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T 2302</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The Texas Legislature –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Constitutional Desig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highligh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1 contains the vesting clau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2 establishes the size of each chamber – the U.S. Constitution has no such langua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s 3 and 4 establish the term lengths for each chamb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5 establishes that the legislature meets every two years, and establishes rules for the consideration of bills. None can be considered for the first 30 days, but it states that the Governor can declare certain bills “emergency matters” meaning that they ca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s 6 and 7 states the qualifications for Senators and Representativ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s 8 states that each chamber can judge the qualifications of their memb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9 establishes the position of Speaker and defines the powers of the Lieutenant Govern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10 states that a 2/3rds quorum is necessary to conduct busin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11 allows each chamber to punish and expel memb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titutional Design of the Texas Legislat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12 mandates that each chamber keep a journal of its proceeding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13 mandates that the Governor issue writs of elections if vacancies occur in either chamb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14 privileges members from arrest during the ses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15 allows each chamber to punish members for disorderly conduc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16 mandates that sessions be open to the publ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17 concerns adjourn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s 18 and 19 prevents members from holding other government offices, and vice vers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20 places limits on tax collectors holding offi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21 states that debates on the floor cannot be questioned in any other pla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22 prevents members who have a stake in an issue from voting on 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23 reinforces the residency require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24 establishes the salary of members, allows them to receive a per diem rates when in session and mandates that sessions be 140 days lo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24a establishes the </a:t>
            </a:r>
            <a:r>
              <a:rPr b="0" lang="en-US" sz="4400" spc="-1" strike="noStrike" u="sng">
                <a:solidFill>
                  <a:srgbClr val="0000ff"/>
                </a:solidFill>
                <a:uFillTx/>
                <a:latin typeface="Calibri"/>
                <a:hlinkClick r:id="rId1"/>
              </a:rPr>
              <a:t>Texas Ethics Commission</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TEC: </a:t>
            </a:r>
            <a:r>
              <a:rPr b="0" lang="en-US" sz="4400" spc="-1" strike="noStrike" u="sng">
                <a:solidFill>
                  <a:srgbClr val="0000ff"/>
                </a:solidFill>
                <a:uFillTx/>
                <a:latin typeface="Calibri"/>
                <a:hlinkClick r:id="rId2"/>
              </a:rPr>
              <a:t>Texas Tribune</a:t>
            </a:r>
            <a:br>
              <a:rPr sz="4400"/>
            </a:br>
            <a:r>
              <a:rPr b="0" lang="en-US" sz="4400" spc="-1" strike="noStrike">
                <a:solidFill>
                  <a:srgbClr val="000000"/>
                </a:solidFill>
                <a:latin typeface="Calibri"/>
              </a:rPr>
              <a:t>TEC: </a:t>
            </a:r>
            <a:r>
              <a:rPr b="0" lang="en-US" sz="4400" spc="-1" strike="noStrike" u="sng">
                <a:solidFill>
                  <a:srgbClr val="0000ff"/>
                </a:solidFill>
                <a:uFillTx/>
                <a:latin typeface="Calibri"/>
                <a:hlinkClick r:id="rId3"/>
              </a:rPr>
              <a:t>Wikiped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25 concerns senatorial distric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26 modifies how house districts are apportioned across the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27 states that elections for each chamber shall be the same throughout the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28 clarifies the apportionment process and establishes the </a:t>
            </a:r>
            <a:r>
              <a:rPr b="0" lang="en-US" sz="4400" spc="-1" strike="noStrike" u="sng">
                <a:solidFill>
                  <a:srgbClr val="0000ff"/>
                </a:solidFill>
                <a:uFillTx/>
                <a:latin typeface="Calibri"/>
                <a:hlinkClick r:id="rId1"/>
              </a:rPr>
              <a:t>Legislative Redistricting Board</a:t>
            </a:r>
            <a:r>
              <a:rPr b="0" lang="en-US" sz="4400" spc="-1" strike="noStrike">
                <a:solidFill>
                  <a:srgbClr val="000000"/>
                </a:solidFill>
                <a:latin typeface="Calibri"/>
              </a:rPr>
              <a:t>. </a:t>
            </a:r>
            <a:br>
              <a:rPr sz="4400"/>
            </a:br>
            <a:br>
              <a:rPr sz="4400"/>
            </a:br>
            <a:r>
              <a:rPr b="0" lang="en-US" sz="4400" spc="-1" strike="noStrike">
                <a:solidFill>
                  <a:srgbClr val="000000"/>
                </a:solidFill>
                <a:latin typeface="Calibri"/>
              </a:rPr>
              <a:t>LRB: </a:t>
            </a:r>
            <a:r>
              <a:rPr b="0" lang="en-US" sz="4400" spc="-1" strike="noStrike" u="sng">
                <a:solidFill>
                  <a:srgbClr val="0000ff"/>
                </a:solidFill>
                <a:uFillTx/>
                <a:latin typeface="Calibri"/>
                <a:hlinkClick r:id="rId2"/>
              </a:rPr>
              <a:t>Texas Tribune</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29 states that all laws begin with the phrase: "Be it enacted by the Legislature of the State of Texas.“</a:t>
            </a:r>
            <a:br>
              <a:rPr sz="4400"/>
            </a:br>
            <a:br>
              <a:rPr sz="4400"/>
            </a:br>
            <a:r>
              <a:rPr b="0" lang="en-US" sz="4400" spc="-1" strike="noStrike">
                <a:solidFill>
                  <a:srgbClr val="000000"/>
                </a:solidFill>
                <a:latin typeface="Calibri"/>
              </a:rPr>
              <a:t>This section begins a series that cover the details of the bill making process in the sta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ll information about bills passed in the state can be found in the </a:t>
            </a:r>
            <a:r>
              <a:rPr b="0" lang="en-US" sz="4400" spc="-1" strike="noStrike" u="sng">
                <a:solidFill>
                  <a:srgbClr val="0000ff"/>
                </a:solidFill>
                <a:uFillTx/>
                <a:latin typeface="Calibri"/>
                <a:hlinkClick r:id="rId1"/>
              </a:rPr>
              <a:t>Legislative Reference Library’s</a:t>
            </a:r>
            <a:r>
              <a:rPr b="0" lang="en-US" sz="4400" spc="-1" strike="noStrike">
                <a:solidFill>
                  <a:srgbClr val="000000"/>
                </a:solidFill>
                <a:latin typeface="Calibri"/>
              </a:rPr>
              <a:t> section on </a:t>
            </a:r>
            <a:r>
              <a:rPr b="0" lang="en-US" sz="4400" spc="-1" strike="noStrike" u="sng">
                <a:solidFill>
                  <a:srgbClr val="0000ff"/>
                </a:solidFill>
                <a:uFillTx/>
                <a:latin typeface="Calibri"/>
                <a:hlinkClick r:id="rId2"/>
              </a:rPr>
              <a:t>Bill Statistics</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only bill that the legislature has to pass is the budge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xas Legislature: </a:t>
            </a:r>
            <a:r>
              <a:rPr b="0" lang="en-US" sz="4400" spc="-1" strike="noStrike" u="sng">
                <a:solidFill>
                  <a:srgbClr val="0000ff"/>
                </a:solidFill>
                <a:uFillTx/>
                <a:latin typeface="Calibri"/>
                <a:hlinkClick r:id="rId1"/>
              </a:rPr>
              <a:t>_x000b__x000b_Article Three of the _x000b_Texas Constitution</a:t>
            </a:r>
            <a:br>
              <a:rPr sz="4400"/>
            </a:br>
            <a:br>
              <a:rPr sz="4400"/>
            </a:br>
            <a:r>
              <a:rPr b="0" lang="en-US" sz="2000" spc="-1" strike="noStrike">
                <a:solidFill>
                  <a:srgbClr val="000000"/>
                </a:solidFill>
                <a:latin typeface="Calibri"/>
              </a:rPr>
              <a:t>You might want to also read the </a:t>
            </a:r>
            <a:r>
              <a:rPr b="0" lang="en-US" sz="2000" spc="-1" strike="noStrike" u="sng">
                <a:solidFill>
                  <a:srgbClr val="0000ff"/>
                </a:solidFill>
                <a:uFillTx/>
                <a:latin typeface="Calibri"/>
                <a:hlinkClick r:id="rId2"/>
              </a:rPr>
              <a:t>legislature’s _x000b_entry</a:t>
            </a:r>
            <a:r>
              <a:rPr b="0" lang="en-US" sz="2000" spc="-1" strike="noStrike">
                <a:solidFill>
                  <a:srgbClr val="000000"/>
                </a:solidFill>
                <a:latin typeface="Calibri"/>
              </a:rPr>
              <a:t> in the Handbook of Texas Online.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30 states that laws must be passed in the form of bil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31 allows bills to originate in either chamb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32 states that bills have to be read on three several days in each chamb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33 mandates that revenue bills begin in the Hou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34 bills once defeated, cannot be reintroduced that ses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35 bills can only contain one subjec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36 concerns the revision of law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37 states that bills must be reported out of committee at least 3 days before the adjournment of the legislat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38 mandates that bills passed by each chamber be signed by the presiding officer of each chamb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39 states that laws passed by the legislature go into effect 90 days after the end of the ses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a:t>
            </a:r>
            <a:r>
              <a:rPr b="0" lang="en-US" sz="4400" spc="-1" strike="noStrike" u="sng">
                <a:solidFill>
                  <a:srgbClr val="0000ff"/>
                </a:solidFill>
                <a:uFillTx/>
                <a:latin typeface="Calibri"/>
                <a:hlinkClick r:id="rId1"/>
              </a:rPr>
              <a:t>link to the original wording</a:t>
            </a:r>
            <a:r>
              <a:rPr b="0" lang="en-US" sz="4400" spc="-1" strike="noStrike">
                <a:solidFill>
                  <a:srgbClr val="000000"/>
                </a:solidFill>
                <a:latin typeface="Calibri"/>
              </a:rPr>
              <a:t> of Article 3 of the 1876 Constitution.</a:t>
            </a:r>
            <a:br>
              <a:rPr sz="4400"/>
            </a:br>
            <a:br>
              <a:rPr sz="4400"/>
            </a:br>
            <a:r>
              <a:rPr b="0" lang="en-US" sz="4400" spc="-1" strike="noStrike">
                <a:solidFill>
                  <a:srgbClr val="000000"/>
                </a:solidFill>
                <a:latin typeface="Calibri"/>
              </a:rPr>
              <a:t>It had </a:t>
            </a:r>
            <a:br>
              <a:rPr sz="4400"/>
            </a:br>
            <a:r>
              <a:rPr b="0" lang="en-US" sz="4400" spc="-1" strike="noStrike">
                <a:solidFill>
                  <a:srgbClr val="000000"/>
                </a:solidFill>
                <a:latin typeface="Calibri"/>
              </a:rPr>
              <a:t>58 Sections and </a:t>
            </a:r>
            <a:br>
              <a:rPr sz="4400"/>
            </a:br>
            <a:r>
              <a:rPr b="0" lang="en-US" sz="4400" spc="-1" strike="noStrike">
                <a:solidFill>
                  <a:srgbClr val="000000"/>
                </a:solidFill>
                <a:latin typeface="Calibri"/>
              </a:rPr>
              <a:t>3,809 word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40 states that special sessions can only focus on the subject the legislature was called to consid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41 states that all votes – except for those for officers – shall be by voice vote. Votes for Speaker are by secret ballo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42 was repeall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43 modifies the process for revising law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44 concerns compensation for all officers not covered in the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45 allows for changes of venue in criminal and civil cas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46 States that all fees must be collected uniform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47 allows for laws to be passed regarding lotteries and regulating bingo gam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48 has been repealed with the exception of a section relating to emergence service, and jail distric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49 prohibits the states from creating debt unless due to certain circumstances described in the sec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current version, the article contains 67 Sections and 29,557 word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49a requires the Comptroller of Public Accounts to provide to the Governor and Legislature an accounting of the financial condition of the state prior to each ses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49b establishes the Veteran’s Land Fund and the Veteran’s Housing Assistance Fu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49c establishes that Texas Water Development Boar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49d (the longest in the article) concerns Water Development Board and authorizes the sale of bonds for that purpos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49e concerns the Texas Park Development Fu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49f provides for bonds to be sold to provide assistance for the purchase of farm and ranch la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49g was initially intended to provide funding for the </a:t>
            </a:r>
            <a:r>
              <a:rPr b="0" lang="en-US" sz="4400" spc="-1" strike="noStrike" u="sng">
                <a:solidFill>
                  <a:srgbClr val="0000ff"/>
                </a:solidFill>
                <a:uFillTx/>
                <a:latin typeface="Calibri"/>
                <a:hlinkClick r:id="rId1"/>
              </a:rPr>
              <a:t>Superconducting Super Collider</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49g now concerns the Economic Stabilization Fund (</a:t>
            </a:r>
            <a:r>
              <a:rPr b="0" lang="en-US" sz="4400" spc="-1" strike="noStrike" u="sng">
                <a:solidFill>
                  <a:srgbClr val="0000ff"/>
                </a:solidFill>
                <a:uFillTx/>
                <a:latin typeface="Calibri"/>
                <a:hlinkClick r:id="rId1"/>
              </a:rPr>
              <a:t>the Rainy Day Fund</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49h allows for bonds to be sold to build prisons and mental health facilit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49i allows for bonds to be sold to establish the Texas Agricultural Fu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contains language defining more clearly how the House and Senate operate internally and how bills become law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49j places limits on additional state debt beyond what is allowed in the preceding s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49k establishes the Texas Mobility Fu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49l allows for assistance for building roads to serve coloni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49m and n allows for funding highway projects as well as projects aimed at benefiting defense related communi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49o allows for funding the Texas Rail and Relocation Improvement Fu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49p allows for additional highway construction projec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50 limits the ability of the state to provide credit and related assista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50a allows for the creation of the State Medical Educational Boar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s 50b-4, 5 and 6 allow for student loa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s 50c, d, e, f and g provide for loans related to agriculture and maintenance and repai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ny provisions are very similar to those in the U.S. Constitution. </a:t>
            </a:r>
            <a:br>
              <a:rPr sz="4400"/>
            </a:br>
            <a:br>
              <a:rPr sz="4400"/>
            </a:br>
            <a:r>
              <a:rPr b="0" lang="en-US" sz="4400" spc="-1" strike="noStrike">
                <a:solidFill>
                  <a:srgbClr val="000000"/>
                </a:solidFill>
                <a:latin typeface="Calibri"/>
              </a:rPr>
              <a:t>But many are no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51 prevents the legislature form making grants to individuals or corpor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s 51a – g authorize various forms of assistan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s 52 a – k concern the relationship between the state and smaller, local govern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53 prevents the state from granting the power to grant extra fees and compensation after services have been render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55 prevents the state from negating indebtedness on the part of an individual or corpor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56 places limits on the local laws and special that can be passed by the legislat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57 states that local laws passed by the legislature cannot be passed unless notice is given in the locality affected by the la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58 states the seat of government is Austi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s 59 and 60 allows for the establishment of Workers’ Compensation Insura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61a establishes minimum salaries for executive office hold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rticle has been heavily amended since it was originally ratifi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62 relates to the continuity of state and local government in the event of a disas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63 was repeal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64 allows for the consolidation of governmental offices within a coun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65 places a limit on the interest rates on bonds issued by the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66 places limits on liability for noneconomic damag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67 allows for the establishment of and funding for the Cancer Prevention and Research Institute of Tex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1T15:50:03Z</dcterms:created>
  <dc:creator>Kevin Jefferies</dc:creator>
  <dc:description/>
  <dc:language>en-US</dc:language>
  <cp:lastModifiedBy>Kevin Jefferies</cp:lastModifiedBy>
  <dcterms:modified xsi:type="dcterms:W3CDTF">2012-01-30T03:39:09Z</dcterms:modified>
  <cp:revision>116</cp:revision>
  <dc:subject/>
  <dc:title>PowerPoint Presentation</dc:title>
</cp:coreProperties>
</file>